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856-5655-4D8E-93EE-B153E3AF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6CC-7480-481F-BB2E-B793213E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DDE-6061-4B38-952F-B423F13E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488-92CF-4F61-A59C-6D819BD5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3C2-D989-4ECF-86D2-3BEA897A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3E0-2242-43B9-949A-13B7BC90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1D2-E1CA-49D4-B767-2C4D0EE0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171-9901-45DA-8D1D-AB77ADD2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340-7C25-4B10-898C-D7FB74E1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A6F-1212-46DE-A1EC-EFA1313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F56-4F83-48F8-B759-07E3D51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976-BCFC-4AA6-A4A7-A029D253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52A9-4CD5-493F-859C-01D7B2FB33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5012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14Z</dcterms:modified>
  <cp:revision>73</cp:revision>
  <dc:subject/>
  <dc:title>Boden aktuell</dc:title>
</cp:coreProperties>
</file>